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5FD-E018-4D36-9801-F5563908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C77-1994-4B06-AF15-8988894C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D83-4BA0-4BB1-9B35-BDD2CBFD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CB2-EF61-4532-8790-044A3427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918-F64F-4E73-82BA-197BC349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6F9-D316-4162-BAB5-B1FB7C9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CCA-E81B-41FB-A3F1-117A9EE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D92-373B-4141-BDF8-54AC2FED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503-9543-44BC-97A8-20C5B945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E17-F2E4-4A15-86EC-1062DED9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8E2-A0E8-4328-B99E-CA8CD1E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425-E288-4BD2-BA0E-5F3325E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6C00-D8D2-46A1-A44A-A802FF410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3765600"/>
          <a:ext cx="38098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65600"/>
                    <a:ext cx="3809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43000" y="1752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Heart Sa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62360" y="2819520"/>
            <a:ext cx="3419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05740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06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3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416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39400" y="2025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867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2200" y="1981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1981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44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86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08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03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9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4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22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025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500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72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17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152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1T15:50:50Z</dcterms:modified>
  <cp:revision>22</cp:revision>
  <dc:subject/>
  <dc:title>Rivet</dc:title>
</cp:coreProperties>
</file>